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bserie06.wav" ContentType="audio/x-wav"/>
  <Override PartName="/ppt/media/image8.wmf" ContentType="image/x-wmf"/>
  <Override PartName="/ppt/media/image9.wmf" ContentType="image/x-wmf"/>
  <Override PartName="/ppt/media/partyhorn.wav" ContentType="audio/x-wav"/>
  <Override PartName="/ppt/media/fastcar.wav" ContentType="audio/x-wav"/>
  <Override PartName="/ppt/media/fastsnaps.wav" ContentType="audio/x-wav"/>
  <Override PartName="/ppt/media/image15.png" ContentType="image/png"/>
  <Override PartName="/ppt/media/oldcarhorn.wav" ContentType="audio/x-wav"/>
  <Override PartName="/ppt/media/doorbl07.wav" ContentType="audio/x-wav"/>
  <Override PartName="/ppt/media/image10.wmf" ContentType="image/x-wmf"/>
  <Override PartName="/ppt/media/image14.gif" ContentType="image/gif"/>
  <Override PartName="/ppt/media/jetflyby2.wav" ContentType="audio/x-wav"/>
  <Override PartName="/ppt/media/GLASS.WAV" ContentType="audio/x-wav"/>
  <Override PartName="/ppt/media/WHOOSH.WAV" ContentType="audio/x-wav"/>
  <Override PartName="/ppt/media/image29.wmf" ContentType="image/x-wmf"/>
  <Override PartName="/ppt/media/highchime.wav" ContentType="audio/x-wav"/>
  <Override PartName="/ppt/media/GUNSHOT.WAV" ContentType="audio/x-wav"/>
  <Override PartName="/ppt/media/hzipup01.wav" ContentType="audio/x-wav"/>
  <Override PartName="/ppt/media/image24.wmf" ContentType="image/x-wmf"/>
  <Override PartName="/ppt/media/image5.wmf" ContentType="image/x-wmf"/>
  <Override PartName="/ppt/media/CHIMES.WAV" ContentType="audio/x-wav"/>
  <Override PartName="/ppt/media/image28.wmf" ContentType="image/x-wmf"/>
  <Override PartName="/ppt/media/image6.wmf" ContentType="image/x-wmf"/>
  <Override PartName="/ppt/media/zipby102.wav" ContentType="audio/x-wav"/>
  <Override PartName="/ppt/media/image20.wmf" ContentType="image/x-wmf"/>
  <Override PartName="/ppt/media/jetflyby.wav" ContentType="audio/x-wav"/>
  <Override PartName="/ppt/media/image18.wmf" ContentType="image/x-wmf"/>
  <Override PartName="/ppt/media/childrenlaugh.wav" ContentType="audio/x-wav"/>
  <Override PartName="/ppt/media/image19.wmf" ContentType="image/x-wmf"/>
  <Override PartName="/ppt/media/image21.wmf" ContentType="image/x-wmf"/>
  <Override PartName="/ppt/media/child%20yikes.wav" ContentType="audio/x-wav"/>
  <Override PartName="/ppt/media/image23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bbeeps04.wav" ContentType="audio/x-wav"/>
  <Override PartName="/ppt/media/lzipup01.wav" ContentType="audio/x-wav"/>
  <Override PartName="/ppt/media/DRIVEBY.WAV" ContentType="audio/x-wav"/>
  <Override PartName="/ppt/media/image17.wmf" ContentType="image/x-wmf"/>
  <Override PartName="/ppt/media/image16.wmf" ContentType="image/x-wmf"/>
  <Override PartName="/ppt/media/zapbig0g.wav" ContentType="audio/x-wav"/>
  <Override PartName="/ppt/media/image22.wmf" ContentType="image/x-wmf"/>
  <Override PartName="/ppt/media/lionroar2.wav" ContentType="audio/x-wav"/>
  <Override PartName="/ppt/media/peopleooo.wav" ContentType="audio/x-wav"/>
  <Override PartName="/ppt/media/byipee04.wav" ContentType="audio/x-wav"/>
  <Override PartName="/ppt/media/image1.wmf" ContentType="image/x-wmf"/>
  <Override PartName="/ppt/media/shiphorn.wav" ContentType="audio/x-wav"/>
  <Override PartName="/ppt/media/children%20wow.wav" ContentType="audio/x-wav"/>
  <Override PartName="/ppt/media/image7.wmf" ContentType="image/x-wmf"/>
  <Override PartName="/ppt/media/caralarmoff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E4E-E083-4C68-9AF6-D7DD2EB8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E9A-4B4D-47F7-84DE-0EC64787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416-1A7F-425D-870E-F07909E2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058-C0EB-43DD-9451-E51C54CB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54F-66F3-4181-990D-90D1DB6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9C5-826C-48A0-9D1C-624B527C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AB2-24FD-4BBC-A787-49016BF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54F-D9BC-44BD-B520-5820038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36F-CF63-461C-AB32-40B21EE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19A-8FB7-4A73-B06D-138430A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9FD-2BEE-4032-8A0C-3CBAE10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434-3D12-4786-A609-C5F1B05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074E-A4A4-4145-A38F-2BE0D97B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audio" Target="../media/zipby102.wav"/><Relationship Id="rId7" Type="http://schemas.openxmlformats.org/officeDocument/2006/relationships/audio" Target="../media/lionroar2.wav"/><Relationship Id="rId8" Type="http://schemas.openxmlformats.org/officeDocument/2006/relationships/audio" Target="../media/bbeeps04.wav"/><Relationship Id="rId9" Type="http://schemas.openxmlformats.org/officeDocument/2006/relationships/audio" Target="../media/lionroar2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bbeeps04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WHOOSH.WAV"/><Relationship Id="rId18" Type="http://schemas.openxmlformats.org/officeDocument/2006/relationships/audio" Target="../media/GUNSHOT.WAV"/><Relationship Id="rId19" Type="http://schemas.openxmlformats.org/officeDocument/2006/relationships/audio" Target="../media/children%20wow.wav"/><Relationship Id="rId20" Type="http://schemas.openxmlformats.org/officeDocument/2006/relationships/audio" Target="../media/highchime.wav"/><Relationship Id="rId21" Type="http://schemas.openxmlformats.org/officeDocument/2006/relationships/audio" Target="../media/child%20yikes.wav"/><Relationship Id="rId22" Type="http://schemas.openxmlformats.org/officeDocument/2006/relationships/audio" Target="../media/child%20yikes.wav"/><Relationship Id="rId23" Type="http://schemas.openxmlformats.org/officeDocument/2006/relationships/audio" Target="../media/highchime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ighchime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audio" Target="../media/EXPLODE.WAV"/><Relationship Id="rId6" Type="http://schemas.openxmlformats.org/officeDocument/2006/relationships/audio" Target="../media/highchim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children%20wow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jetflyby.wav"/><Relationship Id="rId8" Type="http://schemas.openxmlformats.org/officeDocument/2006/relationships/audio" Target="../media/shiphorn.wav"/><Relationship Id="rId9" Type="http://schemas.openxmlformats.org/officeDocument/2006/relationships/audio" Target="../media/bserie06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ldren%20wow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wmf"/><Relationship Id="rId16" Type="http://schemas.openxmlformats.org/officeDocument/2006/relationships/audio" Target="../media/childrenlaugh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doorbl07.wav"/><Relationship Id="rId21" Type="http://schemas.openxmlformats.org/officeDocument/2006/relationships/audio" Target="../media/zapbig0g.wav"/><Relationship Id="rId22" Type="http://schemas.openxmlformats.org/officeDocument/2006/relationships/audio" Target="../media/fastsnaps.wav"/><Relationship Id="rId23" Type="http://schemas.openxmlformats.org/officeDocument/2006/relationships/audio" Target="../media/fastsnaps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WHOOSH.WAV"/><Relationship Id="rId8" Type="http://schemas.openxmlformats.org/officeDocument/2006/relationships/audio" Target="../media/caralarmoff.wav"/><Relationship Id="rId9" Type="http://schemas.openxmlformats.org/officeDocument/2006/relationships/audio" Target="../media/jetflyby.wav"/><Relationship Id="rId10" Type="http://schemas.openxmlformats.org/officeDocument/2006/relationships/audio" Target="../media/shiphorn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ldren%20wow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zapbig0g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zapbig0g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ldren%20wow.wav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GLAS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GLAS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GLASS.WAV"/><Relationship Id="rId25" Type="http://schemas.openxmlformats.org/officeDocument/2006/relationships/audio" Target="../media/CHIMES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oldcarhorn.wav"/><Relationship Id="rId16" Type="http://schemas.openxmlformats.org/officeDocument/2006/relationships/audio" Target="../media/fastsnaps.wav"/><Relationship Id="rId17" Type="http://schemas.openxmlformats.org/officeDocument/2006/relationships/audio" Target="../media/oldcarhorn.wav"/><Relationship Id="rId18" Type="http://schemas.openxmlformats.org/officeDocument/2006/relationships/audio" Target="../media/oldcarhorn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oldcarhorn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oldcarhorn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hzipup01.wav"/><Relationship Id="rId8" Type="http://schemas.openxmlformats.org/officeDocument/2006/relationships/audio" Target="../media/zipby102.wav"/><Relationship Id="rId9" Type="http://schemas.openxmlformats.org/officeDocument/2006/relationships/audio" Target="../media/jetflyby2.wav"/><Relationship Id="rId10" Type="http://schemas.openxmlformats.org/officeDocument/2006/relationships/audio" Target="../media/bbeeps04.wav"/><Relationship Id="rId11" Type="http://schemas.openxmlformats.org/officeDocument/2006/relationships/audio" Target="../media/fastcar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beeps04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partyhorn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oldcarhorn.wav"/><Relationship Id="rId19" Type="http://schemas.openxmlformats.org/officeDocument/2006/relationships/audio" Target="../media/oldcarhorn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zipby102.wav"/><Relationship Id="rId23" Type="http://schemas.openxmlformats.org/officeDocument/2006/relationships/audio" Target="../media/oldcarhorn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oldcarhorn.wav"/><Relationship Id="rId27" Type="http://schemas.openxmlformats.org/officeDocument/2006/relationships/audio" Target="../media/zipby102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beeps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by1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bserie06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676160"/>
            <a:ext cx="3048120" cy="2867760"/>
            <a:chOff x="457200" y="16761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457200" y="39625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1676160"/>
              <a:ext cx="1828800" cy="2210040"/>
              <a:chOff x="990720" y="16761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362320" y="16765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90720" y="32767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90720" y="16765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90720" y="16761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47920" y="16765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9810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7920" y="22860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3505320" y="1676520"/>
            <a:ext cx="464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Prism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0720" y="2286000"/>
            <a:ext cx="5715000" cy="1600200"/>
            <a:chOff x="990720" y="2286000"/>
            <a:chExt cx="5715000" cy="1600200"/>
          </a:xfrm>
        </p:grpSpPr>
        <p:sp>
          <p:nvSpPr>
            <p:cNvPr id="55" name=""/>
            <p:cNvSpPr/>
            <p:nvPr/>
          </p:nvSpPr>
          <p:spPr>
            <a:xfrm>
              <a:off x="990720" y="3276720"/>
              <a:ext cx="1828800" cy="609480"/>
            </a:xfrm>
            <a:custGeom>
              <a:avLst/>
              <a:gdLst/>
              <a:ahLst/>
              <a:rect l="l" t="t" r="r" b="b"/>
              <a:pathLst>
                <a:path w="1152" h="384">
                  <a:moveTo>
                    <a:pt x="0" y="192"/>
                  </a:moveTo>
                  <a:lnTo>
                    <a:pt x="288" y="0"/>
                  </a:lnTo>
                  <a:lnTo>
                    <a:pt x="864" y="0"/>
                  </a:lnTo>
                  <a:lnTo>
                    <a:pt x="1152" y="192"/>
                  </a:lnTo>
                  <a:lnTo>
                    <a:pt x="864" y="384"/>
                  </a:lnTo>
                  <a:lnTo>
                    <a:pt x="288" y="38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2286000"/>
              <a:ext cx="342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" name=""/>
          <p:cNvGraphicFramePr/>
          <p:nvPr/>
        </p:nvGraphicFramePr>
        <p:xfrm>
          <a:off x="6400800" y="228600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819520" y="1980720"/>
            <a:ext cx="5638680" cy="1600200"/>
            <a:chOff x="2819520" y="1980720"/>
            <a:chExt cx="5638680" cy="1600200"/>
          </a:xfrm>
        </p:grpSpPr>
        <p:sp>
          <p:nvSpPr>
            <p:cNvPr id="60" name=""/>
            <p:cNvSpPr/>
            <p:nvPr/>
          </p:nvSpPr>
          <p:spPr>
            <a:xfrm>
              <a:off x="6553080" y="2286000"/>
              <a:ext cx="1905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819520" y="1980720"/>
              <a:ext cx="0" cy="1600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2514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8920" y="32479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1960560"/>
            <a:ext cx="1857600" cy="303372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43200" y="2322360"/>
            <a:ext cx="91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85960" y="1913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7320" y="2604960"/>
            <a:ext cx="91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8800" y="4357800"/>
            <a:ext cx="136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70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,341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4397400"/>
            <a:ext cx="1814400" cy="5810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500800" y="47628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62420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Wood for a fireplace is often sold by the cord. A cord is 8 ft by 4 ft by 4 ft. How many cubic feet are in a cord of wood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6120" y="2498760"/>
            <a:ext cx="4884840" cy="358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65560" y="404820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229440" y="4915080"/>
                <a:ext cx="2914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615000" y="4957920"/>
            <a:ext cx="532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2800" y="492912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91600" y="494352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738760"/>
            <a:ext cx="280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128  ft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37200" y="4991040"/>
                <a:ext cx="1434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09480" y="1600200"/>
            <a:ext cx="7925040" cy="2971800"/>
            <a:chOff x="609480" y="1600200"/>
            <a:chExt cx="792504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609480" y="1676520"/>
              <a:ext cx="2361960" cy="2819160"/>
              <a:chOff x="609480" y="1676520"/>
              <a:chExt cx="2361960" cy="2819160"/>
            </a:xfrm>
          </p:grpSpPr>
          <p:sp>
            <p:nvSpPr>
              <p:cNvPr id="298" name=""/>
              <p:cNvSpPr/>
              <p:nvPr/>
            </p:nvSpPr>
            <p:spPr>
              <a:xfrm>
                <a:off x="609480" y="3733920"/>
                <a:ext cx="2361960" cy="761760"/>
              </a:xfrm>
              <a:custGeom>
                <a:avLst/>
                <a:gdLst/>
                <a:ahLst/>
                <a:rect l="l" t="t" r="r" b="b"/>
                <a:pathLst>
                  <a:path w="1488" h="624">
                    <a:moveTo>
                      <a:pt x="0" y="624"/>
                    </a:moveTo>
                    <a:lnTo>
                      <a:pt x="624" y="0"/>
                    </a:lnTo>
                    <a:lnTo>
                      <a:pt x="1488" y="0"/>
                    </a:lnTo>
                    <a:lnTo>
                      <a:pt x="864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480" y="1676520"/>
                <a:ext cx="1371600" cy="2819160"/>
              </a:xfrm>
              <a:custGeom>
                <a:avLst/>
                <a:gdLst/>
                <a:ahLst/>
                <a:rect l="l" t="t" r="r" b="b"/>
                <a:pathLst>
                  <a:path w="912" h="1440">
                    <a:moveTo>
                      <a:pt x="0" y="1440"/>
                    </a:moveTo>
                    <a:lnTo>
                      <a:pt x="912" y="1440"/>
                    </a:lnTo>
                    <a:lnTo>
                      <a:pt x="672" y="0"/>
                    </a:lnTo>
                    <a:lnTo>
                      <a:pt x="0" y="1440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99840" y="1676520"/>
                <a:ext cx="1371600" cy="2057400"/>
              </a:xfrm>
              <a:custGeom>
                <a:avLst/>
                <a:gdLst/>
                <a:ahLst/>
                <a:rect l="l" t="t" r="r" b="b"/>
                <a:pathLst>
                  <a:path w="864" h="1296">
                    <a:moveTo>
                      <a:pt x="0" y="1296"/>
                    </a:moveTo>
                    <a:lnTo>
                      <a:pt x="864" y="1296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324480" y="1600200"/>
              <a:ext cx="2210040" cy="2971800"/>
              <a:chOff x="6324480" y="1600200"/>
              <a:chExt cx="2210040" cy="2971800"/>
            </a:xfrm>
          </p:grpSpPr>
          <p:sp>
            <p:nvSpPr>
              <p:cNvPr id="302" name=""/>
              <p:cNvSpPr/>
              <p:nvPr/>
            </p:nvSpPr>
            <p:spPr>
              <a:xfrm>
                <a:off x="6324480" y="1600200"/>
                <a:ext cx="221004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24480" y="3657600"/>
                <a:ext cx="2210040" cy="914400"/>
              </a:xfrm>
              <a:prstGeom prst="ellipse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609480" y="2057400"/>
            <a:ext cx="7925040" cy="2514600"/>
            <a:chOff x="609480" y="2057400"/>
            <a:chExt cx="7925040" cy="2514600"/>
          </a:xfrm>
        </p:grpSpPr>
        <p:graphicFrame>
          <p:nvGraphicFramePr>
            <p:cNvPr id="305" name=""/>
            <p:cNvGraphicFramePr/>
            <p:nvPr/>
          </p:nvGraphicFramePr>
          <p:xfrm>
            <a:off x="2514600" y="2057400"/>
            <a:ext cx="2803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057400"/>
                      <a:ext cx="2803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609480" y="3733920"/>
              <a:ext cx="2362320" cy="76176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lnTo>
                    <a:pt x="624" y="0"/>
                  </a:lnTo>
                  <a:lnTo>
                    <a:pt x="1488" y="0"/>
                  </a:lnTo>
                  <a:lnTo>
                    <a:pt x="864" y="48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3657600"/>
              <a:ext cx="2210040" cy="914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93240" y="1645560"/>
            <a:ext cx="537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 or Con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1638360"/>
            <a:ext cx="6858000" cy="2400120"/>
            <a:chOff x="1600200" y="1638360"/>
            <a:chExt cx="6858000" cy="2400120"/>
          </a:xfrm>
        </p:grpSpPr>
        <p:sp>
          <p:nvSpPr>
            <p:cNvPr id="313" name=""/>
            <p:cNvSpPr/>
            <p:nvPr/>
          </p:nvSpPr>
          <p:spPr>
            <a:xfrm>
              <a:off x="1600200" y="3657600"/>
              <a:ext cx="304920" cy="3808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4" name=""/>
            <p:cNvGraphicFramePr/>
            <p:nvPr/>
          </p:nvGraphicFramePr>
          <p:xfrm>
            <a:off x="5257800" y="2286000"/>
            <a:ext cx="6858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286000"/>
                      <a:ext cx="685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6" name=""/>
            <p:cNvSpPr/>
            <p:nvPr/>
          </p:nvSpPr>
          <p:spPr>
            <a:xfrm>
              <a:off x="1600200" y="1752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4038480"/>
              <a:ext cx="3045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29680" y="1638360"/>
              <a:ext cx="1440" cy="2362320"/>
            </a:xfrm>
            <a:custGeom>
              <a:avLst/>
              <a:gdLst/>
              <a:ahLst/>
              <a:rect l="l" t="t" r="r" b="b"/>
              <a:pathLst>
                <a:path w="1" h="1488">
                  <a:moveTo>
                    <a:pt x="0" y="0"/>
                  </a:moveTo>
                  <a:lnTo>
                    <a:pt x="0" y="148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67480" y="3657600"/>
              <a:ext cx="228600" cy="304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67480" y="3962520"/>
              <a:ext cx="9907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00" y="4494960"/>
            <a:ext cx="366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4952880"/>
          <a:ext cx="43344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9528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066680" y="5181480"/>
          <a:ext cx="102096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181480"/>
                    <a:ext cx="10209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905120" y="5181480"/>
          <a:ext cx="59832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181480"/>
                    <a:ext cx="5983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5791680" y="4647600"/>
            <a:ext cx="30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400800" y="5181480"/>
          <a:ext cx="43344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51814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772400" y="5334120"/>
          <a:ext cx="598320" cy="77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72400" y="5334120"/>
                    <a:ext cx="5983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"/>
          <p:cNvGrpSpPr/>
          <p:nvPr/>
        </p:nvGrpSpPr>
        <p:grpSpPr>
          <a:xfrm>
            <a:off x="6781680" y="3809160"/>
            <a:ext cx="1320840" cy="2329560"/>
            <a:chOff x="6781680" y="3809160"/>
            <a:chExt cx="1320840" cy="2329560"/>
          </a:xfrm>
        </p:grpSpPr>
        <p:graphicFrame>
          <p:nvGraphicFramePr>
            <p:cNvPr id="334" name=""/>
            <p:cNvGraphicFramePr/>
            <p:nvPr/>
          </p:nvGraphicFramePr>
          <p:xfrm>
            <a:off x="6781680" y="5257800"/>
            <a:ext cx="1219320" cy="880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81680" y="5257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773840" y="380916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2514600"/>
            <a:ext cx="3276360" cy="3276720"/>
            <a:chOff x="1219320" y="2514600"/>
            <a:chExt cx="3276360" cy="3276720"/>
          </a:xfrm>
        </p:grpSpPr>
        <p:sp>
          <p:nvSpPr>
            <p:cNvPr id="340" name=""/>
            <p:cNvSpPr/>
            <p:nvPr/>
          </p:nvSpPr>
          <p:spPr>
            <a:xfrm>
              <a:off x="1219320" y="2514600"/>
              <a:ext cx="3276360" cy="3276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19320" y="3809880"/>
              <a:ext cx="3276360" cy="7621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9520" y="4191120"/>
              <a:ext cx="16761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7880" y="36871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885920" y="2361600"/>
            <a:ext cx="338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622840" y="2895480"/>
          <a:ext cx="466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2840" y="2895480"/>
                    <a:ext cx="46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019920" y="2971800"/>
          <a:ext cx="12189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71800"/>
                    <a:ext cx="1218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5800" y="1523880"/>
            <a:ext cx="3048120" cy="3048120"/>
            <a:chOff x="685800" y="1523880"/>
            <a:chExt cx="3048120" cy="3048120"/>
          </a:xfrm>
        </p:grpSpPr>
        <p:sp>
          <p:nvSpPr>
            <p:cNvPr id="352" name=""/>
            <p:cNvSpPr/>
            <p:nvPr/>
          </p:nvSpPr>
          <p:spPr>
            <a:xfrm>
              <a:off x="685800" y="1523880"/>
              <a:ext cx="3048120" cy="2590920"/>
            </a:xfrm>
            <a:prstGeom prst="triangle">
              <a:avLst>
                <a:gd name="adj" fmla="val 500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3733920"/>
              <a:ext cx="3048120" cy="83808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10040" y="411480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0040" y="1600200"/>
              <a:ext cx="0" cy="25146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45120" y="36572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2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4080" y="27428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25560" y="18507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62268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0" name=""/>
          <p:cNvGrpSpPr/>
          <p:nvPr/>
        </p:nvGrpSpPr>
        <p:grpSpPr>
          <a:xfrm>
            <a:off x="3962520" y="1523880"/>
            <a:ext cx="3112920" cy="1219320"/>
            <a:chOff x="3962520" y="1523880"/>
            <a:chExt cx="3112920" cy="1219320"/>
          </a:xfrm>
        </p:grpSpPr>
        <p:grpSp>
          <p:nvGrpSpPr>
            <p:cNvPr id="361" name=""/>
            <p:cNvGrpSpPr/>
            <p:nvPr/>
          </p:nvGrpSpPr>
          <p:grpSpPr>
            <a:xfrm>
              <a:off x="5105520" y="1523880"/>
              <a:ext cx="1969920" cy="1219320"/>
              <a:chOff x="5105520" y="1523880"/>
              <a:chExt cx="1969920" cy="1219320"/>
            </a:xfrm>
          </p:grpSpPr>
          <p:graphicFrame>
            <p:nvGraphicFramePr>
              <p:cNvPr id="362" name=""/>
              <p:cNvGraphicFramePr/>
              <p:nvPr/>
            </p:nvGraphicFramePr>
            <p:xfrm>
              <a:off x="510552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0552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"/>
              <p:cNvGraphicFramePr/>
              <p:nvPr/>
            </p:nvGraphicFramePr>
            <p:xfrm>
              <a:off x="647712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7712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"/>
              <p:cNvGraphicFramePr/>
              <p:nvPr/>
            </p:nvGraphicFramePr>
            <p:xfrm>
              <a:off x="548640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8" name=""/>
            <p:cNvGraphicFramePr/>
            <p:nvPr/>
          </p:nvGraphicFramePr>
          <p:xfrm>
            <a:off x="396252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0" name=""/>
          <p:cNvSpPr/>
          <p:nvPr/>
        </p:nvSpPr>
        <p:spPr>
          <a:xfrm>
            <a:off x="541044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908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84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809880" y="4114800"/>
                <a:ext cx="4143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55627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11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33520" y="5276880"/>
                <a:ext cx="2966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21004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2.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23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0.9 c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411480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09880" y="251460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28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68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2084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8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504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7600" y="57142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570204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6 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47840" y="1981080"/>
            <a:ext cx="2523960" cy="2645640"/>
            <a:chOff x="447840" y="1981080"/>
            <a:chExt cx="2523960" cy="2645640"/>
          </a:xfrm>
        </p:grpSpPr>
        <p:sp>
          <p:nvSpPr>
            <p:cNvPr id="391" name=""/>
            <p:cNvSpPr/>
            <p:nvPr/>
          </p:nvSpPr>
          <p:spPr>
            <a:xfrm>
              <a:off x="609480" y="35812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371600" y="39621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9480" y="30477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23880" y="3048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304812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198108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1600" y="198108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7920" y="198108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7920" y="198108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3505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00200" y="350532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840" y="413676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411444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1080" y="236196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2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" name=""/>
            <p:cNvCxnSpPr/>
            <p:nvPr/>
          </p:nvCxnSpPr>
          <p:spPr>
            <a:xfrm flipV="1" rot="10800000">
              <a:off x="1523160" y="258984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6" name=""/>
            <p:cNvSpPr/>
            <p:nvPr/>
          </p:nvSpPr>
          <p:spPr>
            <a:xfrm>
              <a:off x="661680" y="207936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38480" y="1447920"/>
            <a:ext cx="2884680" cy="1218960"/>
            <a:chOff x="4038480" y="1447920"/>
            <a:chExt cx="2884680" cy="1218960"/>
          </a:xfrm>
        </p:grpSpPr>
        <p:graphicFrame>
          <p:nvGraphicFramePr>
            <p:cNvPr id="408" name=""/>
            <p:cNvGraphicFramePr/>
            <p:nvPr/>
          </p:nvGraphicFramePr>
          <p:xfrm>
            <a:off x="4038480" y="144792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144792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5486400" y="160020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60020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6324480" y="160020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160020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4" name=""/>
          <p:cNvSpPr/>
          <p:nvPr/>
        </p:nvSpPr>
        <p:spPr>
          <a:xfrm>
            <a:off x="160128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60280" y="5634000"/>
                <a:ext cx="3427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920" y="1371600"/>
            <a:ext cx="7786440" cy="2543040"/>
            <a:chOff x="304920" y="1371600"/>
            <a:chExt cx="7786440" cy="254304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6019920" y="1447920"/>
              <a:ext cx="207144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04920" y="1371600"/>
              <a:ext cx="5715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You build a snowman with spheres of snow. How much snow do you need to make the bottom sphere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717880" y="1185120"/>
            <a:ext cx="2585520" cy="2624760"/>
            <a:chOff x="5717880" y="1185120"/>
            <a:chExt cx="2585520" cy="2624760"/>
          </a:xfrm>
        </p:grpSpPr>
        <p:sp>
          <p:nvSpPr>
            <p:cNvPr id="422" name=""/>
            <p:cNvSpPr/>
            <p:nvPr/>
          </p:nvSpPr>
          <p:spPr>
            <a:xfrm>
              <a:off x="6400800" y="2514600"/>
              <a:ext cx="1295280" cy="129528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8100000">
              <a:off x="6096240" y="15634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053120" y="2513160"/>
            <a:ext cx="1800" cy="1296720"/>
          </a:xfrm>
          <a:custGeom>
            <a:avLst/>
            <a:gdLst/>
            <a:ahLst/>
            <a:rect l="l" t="t" r="r" b="b"/>
            <a:pathLst>
              <a:path w="1" h="817">
                <a:moveTo>
                  <a:pt x="0" y="0"/>
                </a:moveTo>
                <a:lnTo>
                  <a:pt x="0" y="8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086600" y="2971440"/>
            <a:ext cx="1716480" cy="642240"/>
            <a:chOff x="7086600" y="2971440"/>
            <a:chExt cx="1716480" cy="642240"/>
          </a:xfrm>
        </p:grpSpPr>
        <p:sp>
          <p:nvSpPr>
            <p:cNvPr id="426" name=""/>
            <p:cNvSpPr/>
            <p:nvPr/>
          </p:nvSpPr>
          <p:spPr>
            <a:xfrm>
              <a:off x="8154360" y="3123720"/>
              <a:ext cx="64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/>
            <p:nvPr/>
          </p:nvCxnSpPr>
          <p:spPr>
            <a:xfrm flipH="1" rot="16200000">
              <a:off x="7409520" y="2648160"/>
              <a:ext cx="454680" cy="1100880"/>
            </a:xfrm>
            <a:prstGeom prst="curvedConnector2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</p:cxnSp>
      </p:grpSp>
      <p:grpSp>
        <p:nvGrpSpPr>
          <p:cNvPr id="428" name=""/>
          <p:cNvGrpSpPr/>
          <p:nvPr/>
        </p:nvGrpSpPr>
        <p:grpSpPr>
          <a:xfrm>
            <a:off x="2803680" y="2895480"/>
            <a:ext cx="1616040" cy="1219320"/>
            <a:chOff x="2803680" y="2895480"/>
            <a:chExt cx="1616040" cy="1219320"/>
          </a:xfrm>
        </p:grpSpPr>
        <p:graphicFrame>
          <p:nvGraphicFramePr>
            <p:cNvPr id="429" name=""/>
            <p:cNvGraphicFramePr/>
            <p:nvPr/>
          </p:nvGraphicFramePr>
          <p:xfrm>
            <a:off x="2803680" y="2895480"/>
            <a:ext cx="46656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03680" y="289548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"/>
            <p:cNvGraphicFramePr/>
            <p:nvPr/>
          </p:nvGraphicFramePr>
          <p:xfrm>
            <a:off x="3200400" y="2971800"/>
            <a:ext cx="1219320" cy="88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971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984320" y="373392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434" name=""/>
          <p:cNvGraphicFramePr/>
          <p:nvPr/>
        </p:nvGraphicFramePr>
        <p:xfrm>
          <a:off x="2590920" y="4114800"/>
          <a:ext cx="121896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411480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62520" y="4114800"/>
          <a:ext cx="54756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4114800"/>
                    <a:ext cx="547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952880" y="3657600"/>
                <a:ext cx="349416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39" name=""/>
          <p:cNvGraphicFramePr/>
          <p:nvPr/>
        </p:nvGraphicFramePr>
        <p:xfrm>
          <a:off x="1998720" y="5145120"/>
          <a:ext cx="2543040" cy="171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8720" y="5145120"/>
                    <a:ext cx="25430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586400" y="5638680"/>
          <a:ext cx="1766880" cy="65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0" y="5638680"/>
                    <a:ext cx="1766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477120" y="5486400"/>
          <a:ext cx="88092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77120" y="5486400"/>
                    <a:ext cx="88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45960" y="5481720"/>
                <a:ext cx="34275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124160" y="396252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895560" y="236232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79852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92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27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75000" y="43426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720" y="43426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53280" y="556200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9600" y="554976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16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33520" y="1828800"/>
            <a:ext cx="2523960" cy="2645640"/>
            <a:chOff x="533520" y="1828800"/>
            <a:chExt cx="2523960" cy="2645640"/>
          </a:xfrm>
        </p:grpSpPr>
        <p:sp>
          <p:nvSpPr>
            <p:cNvPr id="458" name=""/>
            <p:cNvSpPr/>
            <p:nvPr/>
          </p:nvSpPr>
          <p:spPr>
            <a:xfrm>
              <a:off x="695160" y="34290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457280" y="38098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95160" y="28954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09560" y="2895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5160" y="289584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5160" y="182880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57280" y="182880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33600" y="182880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3600" y="182880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33600" y="33530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85880" y="3353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3520" y="398448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38160" y="396216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66760" y="22096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2" name=""/>
            <p:cNvCxnSpPr/>
            <p:nvPr/>
          </p:nvCxnSpPr>
          <p:spPr>
            <a:xfrm flipV="1" rot="10800000">
              <a:off x="1608840" y="243756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73" name=""/>
            <p:cNvSpPr/>
            <p:nvPr/>
          </p:nvSpPr>
          <p:spPr>
            <a:xfrm>
              <a:off x="747360" y="192708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124160" y="1295280"/>
            <a:ext cx="2884680" cy="1218960"/>
            <a:chOff x="4124160" y="1295280"/>
            <a:chExt cx="2884680" cy="1218960"/>
          </a:xfrm>
        </p:grpSpPr>
        <p:graphicFrame>
          <p:nvGraphicFramePr>
            <p:cNvPr id="475" name=""/>
            <p:cNvGraphicFramePr/>
            <p:nvPr/>
          </p:nvGraphicFramePr>
          <p:xfrm>
            <a:off x="4124160" y="129528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4160" y="129528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5572080" y="144756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2080" y="144756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6410160" y="144756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0160" y="144756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1" name=""/>
          <p:cNvSpPr/>
          <p:nvPr/>
        </p:nvSpPr>
        <p:spPr>
          <a:xfrm>
            <a:off x="1686960" y="55620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700"/>
                            </p:stCondLst>
                            <p:childTnLst>
                              <p:par>
                                <p:cTn id="1111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960"/>
                            </p:stCondLst>
                            <p:childTnLst>
                              <p:par>
                                <p:cTn id="11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75960" y="1599840"/>
            <a:ext cx="3048120" cy="259056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1434960" y="2476080"/>
            <a:ext cx="3048120" cy="8380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997360" y="1371240"/>
            <a:ext cx="0" cy="1523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895480"/>
            <a:ext cx="2629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68080" y="179784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9000" y="236160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492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493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9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5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7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9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1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6212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2814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013280" y="4114800"/>
                <a:ext cx="4143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44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04920" y="5621400"/>
                <a:ext cx="342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241308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57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 yd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167652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436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685440" y="2208960"/>
            <a:ext cx="3048120" cy="259092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0800000">
            <a:off x="700200" y="1744200"/>
            <a:ext cx="3047760" cy="83844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98040" y="2146320"/>
            <a:ext cx="30178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217600" y="2147400"/>
            <a:ext cx="0" cy="2629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07920" y="162324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40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95280" y="2824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5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522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523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5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7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2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29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1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9832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6048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143240" y="4076640"/>
                <a:ext cx="43354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0640" y="449496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0,0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47560" y="5162400"/>
                <a:ext cx="32353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171160" y="571428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1,4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11680" y="5630760"/>
            <a:ext cx="43495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10,467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4720" y="156060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pri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828800"/>
            <a:ext cx="4343400" cy="3461760"/>
            <a:chOff x="304920" y="1828800"/>
            <a:chExt cx="4343400" cy="3461760"/>
          </a:xfrm>
        </p:grpSpPr>
        <p:sp>
          <p:nvSpPr>
            <p:cNvPr id="67" name=""/>
            <p:cNvSpPr/>
            <p:nvPr/>
          </p:nvSpPr>
          <p:spPr>
            <a:xfrm>
              <a:off x="1219320" y="4038480"/>
              <a:ext cx="3429000" cy="838440"/>
            </a:xfrm>
            <a:custGeom>
              <a:avLst/>
              <a:gdLst/>
              <a:ahLst/>
              <a:rect l="l" t="t" r="r" b="b"/>
              <a:pathLst>
                <a:path w="2160" h="528">
                  <a:moveTo>
                    <a:pt x="0" y="528"/>
                  </a:moveTo>
                  <a:lnTo>
                    <a:pt x="1488" y="0"/>
                  </a:lnTo>
                  <a:lnTo>
                    <a:pt x="2160" y="0"/>
                  </a:lnTo>
                  <a:lnTo>
                    <a:pt x="672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666880"/>
              <a:ext cx="1066680" cy="221004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1828800"/>
              <a:ext cx="1067040" cy="220968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1828800"/>
              <a:ext cx="2361960" cy="3048120"/>
            </a:xfrm>
            <a:custGeom>
              <a:avLst/>
              <a:gdLst/>
              <a:ahLst/>
              <a:rect l="l" t="t" r="r" b="b"/>
              <a:pathLst>
                <a:path w="1488" h="1920">
                  <a:moveTo>
                    <a:pt x="0" y="528"/>
                  </a:moveTo>
                  <a:lnTo>
                    <a:pt x="1488" y="0"/>
                  </a:lnTo>
                  <a:lnTo>
                    <a:pt x="1488" y="1392"/>
                  </a:lnTo>
                  <a:lnTo>
                    <a:pt x="0" y="192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1828800"/>
              <a:ext cx="3429000" cy="3048120"/>
            </a:xfrm>
            <a:custGeom>
              <a:avLst/>
              <a:gdLst/>
              <a:ahLst/>
              <a:rect l="l" t="t" r="r" b="b"/>
              <a:pathLst>
                <a:path w="2160" h="1920">
                  <a:moveTo>
                    <a:pt x="0" y="528"/>
                  </a:moveTo>
                  <a:lnTo>
                    <a:pt x="672" y="1920"/>
                  </a:lnTo>
                  <a:lnTo>
                    <a:pt x="2160" y="1392"/>
                  </a:lnTo>
                  <a:lnTo>
                    <a:pt x="1488" y="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981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342900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4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480060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400000">
              <a:off x="3048120" y="434304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0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5638680" y="1981080"/>
          <a:ext cx="21560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1560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5181480"/>
          <a:ext cx="192276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192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410080" y="2593800"/>
          <a:ext cx="274320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59380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0" y="3733920"/>
          <a:ext cx="437184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172200" y="411480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5029200"/>
          <a:ext cx="337968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02920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715000" y="50292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02920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2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6019920"/>
          <a:ext cx="11430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1992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715000" y="594360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1260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4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49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6765840" y="2513160"/>
                <a:ext cx="4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797280" y="3406680"/>
                <a:ext cx="41418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965320" y="5175360"/>
                <a:ext cx="202104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253120" y="5613480"/>
                <a:ext cx="1768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153200" y="5545080"/>
                <a:ext cx="8654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5720" y="2453400"/>
            <a:ext cx="10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6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829560" y="2503440"/>
                <a:ext cx="34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159080" y="3406680"/>
                <a:ext cx="34164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81440" y="5175360"/>
                <a:ext cx="218916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5592600" y="5635800"/>
                <a:ext cx="1089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711840" y="557676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15840" y="2410560"/>
            <a:ext cx="96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8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653000" y="2152800"/>
                <a:ext cx="355608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89" name=""/>
          <p:cNvGraphicFramePr/>
          <p:nvPr/>
        </p:nvGraphicFramePr>
        <p:xfrm>
          <a:off x="5229360" y="25034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29360" y="25034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558120" y="2527200"/>
                <a:ext cx="13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691080" y="3406680"/>
                <a:ext cx="43542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9120" y="5175360"/>
                <a:ext cx="25686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433840" y="5613480"/>
                <a:ext cx="140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827760" y="5587920"/>
                <a:ext cx="8654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01720" y="2410560"/>
            <a:ext cx="11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752480"/>
            <a:ext cx="3200400" cy="18288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Cylinder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9040" y="3124080"/>
            <a:ext cx="3503160" cy="1907280"/>
            <a:chOff x="2669040" y="3124080"/>
            <a:chExt cx="3503160" cy="1907280"/>
          </a:xfrm>
        </p:grpSpPr>
        <p:sp>
          <p:nvSpPr>
            <p:cNvPr id="99" name=""/>
            <p:cNvSpPr/>
            <p:nvPr/>
          </p:nvSpPr>
          <p:spPr>
            <a:xfrm>
              <a:off x="2971800" y="3124080"/>
              <a:ext cx="320040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9040" y="4419720"/>
              <a:ext cx="321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5715000" y="441972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1972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6172200" y="1981080"/>
            <a:ext cx="1430280" cy="3050280"/>
            <a:chOff x="6172200" y="1981080"/>
            <a:chExt cx="1430280" cy="3050280"/>
          </a:xfrm>
        </p:grpSpPr>
        <p:sp>
          <p:nvSpPr>
            <p:cNvPr id="104" name=""/>
            <p:cNvSpPr/>
            <p:nvPr/>
          </p:nvSpPr>
          <p:spPr>
            <a:xfrm>
              <a:off x="6175080" y="4419720"/>
              <a:ext cx="142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981080"/>
              <a:ext cx="0" cy="1371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876920" y="4876920"/>
          <a:ext cx="121896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876920"/>
                    <a:ext cx="1218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4952880"/>
          <a:ext cx="5479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952880"/>
                    <a:ext cx="547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cylin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1905120"/>
            <a:ext cx="4267080" cy="3657600"/>
            <a:chOff x="228600" y="1905120"/>
            <a:chExt cx="4267080" cy="3657600"/>
          </a:xfrm>
        </p:grpSpPr>
        <p:sp>
          <p:nvSpPr>
            <p:cNvPr id="115" name=""/>
            <p:cNvSpPr/>
            <p:nvPr/>
          </p:nvSpPr>
          <p:spPr>
            <a:xfrm>
              <a:off x="685800" y="1905120"/>
              <a:ext cx="2590920" cy="3657600"/>
            </a:xfrm>
            <a:prstGeom prst="can">
              <a:avLst>
                <a:gd name="adj" fmla="val 25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648320"/>
              <a:ext cx="259092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5105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98108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6483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5053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4800600" y="1905120"/>
          <a:ext cx="276372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27637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79720" y="2666880"/>
          <a:ext cx="526428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2666880"/>
                    <a:ext cx="5264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41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24280" y="373392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373392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2578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22880" y="4572000"/>
          <a:ext cx="432252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2880" y="4572000"/>
                    <a:ext cx="43225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79132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7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67080" y="5638680"/>
          <a:ext cx="121932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5638680"/>
                    <a:ext cx="12193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86400" y="5562720"/>
            <a:ext cx="312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863.5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4191120"/>
                <a:ext cx="37958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5029200"/>
                <a:ext cx="3402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62520" y="5029200"/>
            <a:ext cx="5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502920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8672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24  cubic uni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70320" y="510552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H="1">
            <a:off x="1600200" y="1905120"/>
            <a:ext cx="4038480" cy="1981080"/>
          </a:xfrm>
          <a:prstGeom prst="cube">
            <a:avLst>
              <a:gd name="adj" fmla="val 45740"/>
            </a:avLst>
          </a:prstGeom>
          <a:solidFill>
            <a:srgbClr val="ffcc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526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8240" y="249696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1360" y="21844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0" y="24811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21844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4040" y="28162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280980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5120" y="28177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582560" y="2423880"/>
            <a:ext cx="92880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359080" y="187956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35240" y="188928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54600" y="18972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00"/>
                            </p:stCondLst>
                            <p:childTnLst>
                              <p:par>
                                <p:cTn id="247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3440" y="1851120"/>
            <a:ext cx="193032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43200"/>
            <a:ext cx="2859120" cy="1582560"/>
          </a:xfrm>
          <a:custGeom>
            <a:avLst/>
            <a:gdLst/>
            <a:ahLst/>
            <a:rect l="l" t="t" r="r" b="b"/>
            <a:pathLst>
              <a:path w="1801" h="997">
                <a:moveTo>
                  <a:pt x="0" y="997"/>
                </a:moveTo>
                <a:lnTo>
                  <a:pt x="1179" y="393"/>
                </a:lnTo>
                <a:lnTo>
                  <a:pt x="1801" y="0"/>
                </a:lnTo>
                <a:lnTo>
                  <a:pt x="640" y="603"/>
                </a:lnTo>
                <a:lnTo>
                  <a:pt x="0" y="997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2816280"/>
            <a:ext cx="193068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2452680"/>
            <a:ext cx="3802320" cy="973080"/>
          </a:xfrm>
          <a:custGeom>
            <a:avLst/>
            <a:gdLst/>
            <a:ahLst/>
            <a:rect l="l" t="t" r="r" b="b"/>
            <a:pathLst>
              <a:path w="2386" h="613">
                <a:moveTo>
                  <a:pt x="0" y="613"/>
                </a:moveTo>
                <a:lnTo>
                  <a:pt x="1170" y="0"/>
                </a:lnTo>
                <a:lnTo>
                  <a:pt x="2386" y="0"/>
                </a:lnTo>
                <a:lnTo>
                  <a:pt x="1216" y="613"/>
                </a:lnTo>
                <a:lnTo>
                  <a:pt x="0" y="613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1360" y="1828800"/>
            <a:ext cx="2828880" cy="1596960"/>
          </a:xfrm>
          <a:custGeom>
            <a:avLst/>
            <a:gdLst/>
            <a:ahLst/>
            <a:rect l="l" t="t" r="r" b="b"/>
            <a:pathLst>
              <a:path w="1792" h="1006">
                <a:moveTo>
                  <a:pt x="0" y="603"/>
                </a:moveTo>
                <a:lnTo>
                  <a:pt x="1180" y="0"/>
                </a:lnTo>
                <a:lnTo>
                  <a:pt x="1792" y="393"/>
                </a:lnTo>
                <a:lnTo>
                  <a:pt x="631" y="1006"/>
                </a:lnTo>
                <a:lnTo>
                  <a:pt x="0" y="603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3640" y="2100240"/>
          <a:ext cx="274320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10024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65560" y="3240000"/>
          <a:ext cx="437184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324000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765760" y="362124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14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65560" y="4535640"/>
          <a:ext cx="337968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53564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410080" y="45212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42120" y="452124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89240" y="5526000"/>
          <a:ext cx="114300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9240" y="5526000"/>
                    <a:ext cx="11430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308560" y="545004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4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268596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0" y="270828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1240" y="28465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440" y="179856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2360" y="355752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4760" y="323064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29536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1930320"/>
            <a:ext cx="3105000" cy="1668600"/>
          </a:xfrm>
          <a:prstGeom prst="cube">
            <a:avLst>
              <a:gd name="adj" fmla="val 24263"/>
            </a:avLst>
          </a:prstGeom>
          <a:solidFill>
            <a:srgbClr val="ccecff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7480" y="1930320"/>
            <a:ext cx="0" cy="12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87120" y="319248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6640" y="3192120"/>
            <a:ext cx="420840" cy="406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906640" y="384336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73680" y="4681440"/>
                <a:ext cx="3402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210200" y="4681440"/>
            <a:ext cx="82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1240" y="468144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4240" y="468144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1560" y="55198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480  cm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62360" y="475776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7040" y="285588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040" y="1960560"/>
            <a:ext cx="1987560" cy="224964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0040" y="2235240"/>
            <a:ext cx="198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183996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8204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0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28 ft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rot="16200000">
            <a:off x="1170000" y="1501920"/>
            <a:ext cx="1550880" cy="306216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278460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6760" y="3740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588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9304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9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03 cm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84520" y="2263680"/>
            <a:ext cx="798480" cy="15382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080" y="2249640"/>
            <a:ext cx="0" cy="15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7T15:26:49Z</dcterms:modified>
  <cp:revision>43</cp:revision>
  <dc:subject/>
  <dc:title>No Slide Title</dc:title>
</cp:coreProperties>
</file>